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AA67-D6B7-47F0-9751-EF1CCFA7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EFAC-9C5C-4B35-981F-71C78F88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D3C-AEBA-42A4-BCCE-F0B9872B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7D90-20D0-4EFD-84F0-981033A5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787-06EE-4C2D-B376-702C6684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A44E-3798-45AE-B147-83A4E7F5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ABE-3CA5-4A64-BF65-022913AD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DA1-48C1-488B-A5FB-43EAF859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AA9B-0C99-4AE8-81E4-E4552D77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DE2-BC3F-4869-9E67-F9A523BF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7792-ED06-4C11-B126-6E2BA6A5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13A4-DB0B-4AA7-890C-88554EF9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45DA-9CD0-4526-86D3-BAF172B64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FSDET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SDETEC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2T14:38:00Z</dcterms:created>
  <dc:creator>Cytometry Laboratories</dc:creator>
  <dc:description/>
  <dc:language>en-US</dc:language>
  <cp:lastModifiedBy>Cytometry Laboratories</cp:lastModifiedBy>
  <dcterms:modified xsi:type="dcterms:W3CDTF">1998-04-22T14:46:18Z</dcterms:modified>
  <cp:revision>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TelfordW@hss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K:\htdocs\flowcyt\educate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