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5588-BED5-4B1C-9422-27DEFFC5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C499-0745-46D3-AAF4-8BE8BF5A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49CA-A49C-4B58-A293-D6115A9C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F454-01E6-448E-943E-747A1EBE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64EA-28A7-48C2-8E12-909EFFCF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142-76DF-44BA-9D8A-1A9556DF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51D3-DB97-4CAB-8646-031D6961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53DA-FBC6-4215-B061-37CAC8E7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BC1D-9185-4254-964C-ACF3C0C7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B43-9768-4C2E-8969-A6DC9B23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77CD-4A2C-42E8-A519-ADA11B0D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2F26-0CB2-4CBE-B0C5-6935A6F7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AA37-7DEF-4B5C-90A3-C9B2F951F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MCA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XRD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TC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PC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Y5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ECY5SP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FITCPEDE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FITCPECY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FRET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2T14:54:34Z</dcterms:created>
  <dc:creator>Cytometry Laboratories</dc:creator>
  <dc:description/>
  <dc:language>en-US</dc:language>
  <cp:lastModifiedBy>Cytometry Laboratories</cp:lastModifiedBy>
  <dcterms:modified xsi:type="dcterms:W3CDTF">1998-04-22T15:05:12Z</dcterms:modified>
  <cp:revision>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TelfordW@hs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K:\htdocs\flowcyt\educate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