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C4BD-9F39-4407-A990-3749225A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259D-0FB6-4EB1-AA63-E945F2ED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7607-5EBE-4FC5-8629-9FFEA76D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2D82-58D3-4BEF-AD0B-154C2BF5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FBA2-AFE9-4715-B7BD-04B695CB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F609-D954-4C18-8A0D-D48F5770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97F8-F0AA-4ABE-BE47-0420DAAF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780E-1743-480A-990D-88B5A626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FF57-93A2-4101-BB6C-9FDCB8BB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A681-C55C-4851-A96D-2E73B475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A423-4187-4B06-9D91-8AB6D986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391C-07E4-4C8C-A6E3-CBBCD1F2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8B61-D805-4DA7-A41E-7CF9C06C3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7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FSDETEC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534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SDETEC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5COLOR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2T13:55:51Z</dcterms:created>
  <dc:creator>Cytometry Laboratories</dc:creator>
  <dc:description/>
  <dc:language>en-US</dc:language>
  <cp:lastModifiedBy>Cytometry Laboratories</cp:lastModifiedBy>
  <dcterms:modified xsi:type="dcterms:W3CDTF">1998-04-22T14:28:36Z</dcterms:modified>
  <cp:revision>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TelfordW@hs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K:\htdocs\flowcyt\educate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